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EB6-E4C5-4A4E-BC52-FA011A05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EF7-C678-4CD4-9557-F7B3735C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B6F-8283-4430-BB33-9DD89604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33B-0B54-4727-BD68-E818DC60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4A23-72B8-4E95-87F6-20C9CD19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9226-B16A-4172-AD05-16F4AD99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3677-3D44-41AD-A37F-FDA9E3EE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934C-A5AB-46F6-BF9E-D31130D3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C041-A4F2-40AE-B7D7-72061948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BD74-9563-4191-BBBB-858D8C26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B817-64B8-48A8-A8DF-C7D8E17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B1D-5BAF-401C-9CBA-7C6419D1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1AE1-DD83-478D-B5CF-938FB9A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8AAF-8DA7-4720-AA29-45AD359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254A-A78B-47F7-82BF-74F637F5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AD24-AB21-4C0B-83B9-2D62CDCC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3065-E7E1-40BF-831D-2F473458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490-D733-4B47-9DC4-2B9E2BBE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8CA-E293-4772-B872-9CF3D311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EF5-7D6D-4A89-B4EB-912DDDB7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100-1C53-43D6-8876-3D713EC9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E40-54C8-47C6-96ED-4B7D546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F24-36E1-41D1-AEF2-61C097F7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967-8509-4541-814A-05C88A3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2ECF-35BE-4A8B-8A08-B876ECB16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521B-FDEC-40B2-BBF7-362DD5CB5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DS System 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 15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igh Lev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1430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h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971800"/>
            <a:ext cx="518148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S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3434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5:34:30Z</dcterms:created>
  <dc:creator>CACI</dc:creator>
  <dc:description/>
  <dc:language>en-US</dc:language>
  <cp:lastModifiedBy>CACI</cp:lastModifiedBy>
  <dcterms:modified xsi:type="dcterms:W3CDTF">2006-11-15T20:26:00Z</dcterms:modified>
  <cp:revision>2</cp:revision>
  <dc:subject/>
  <dc:title>CDS System Overview</dc:title>
</cp:coreProperties>
</file>